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B622-C3F3-48C8-BB94-E028E77D79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C227-5F1F-4895-B34A-3F64D680E8C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4E0D-D3C8-4F9A-A5D9-BA2BEDDABB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E0FC-BE6C-466A-942B-8B6797D764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E501-0246-4963-9959-6CCB6DAE15B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E2D7-B752-4DFD-A834-F7D7E4AB5F9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2870-4E70-4A0D-A554-C3480AD5067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3382-28F4-4BB0-8437-A47BF3AC46D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DAA6-2BBF-4928-AAE4-2E7B5EAA0CB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A6C9-1F33-4A39-BE08-AD95113FBB9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DA39-8C76-44A5-8962-3B1A91BF2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FB95-2C42-477D-BC6C-FEADED8B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2519-EFA0-46D8-9FAB-2135CB476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6CB0-3ED3-480F-A1DC-F0ED235B1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C1D8-CC9D-4713-99DE-4FAADC199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C35E-1EA4-4E5E-BFBE-C0B24008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FCCF0-5FCE-4349-A5E2-E77C7B3E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BBE0-BBBE-4D04-9DFE-407C6449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61DC-1CD0-423E-AF3E-10E0D9A6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45FB-61A0-43EF-BAE3-25ADBF5C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82109-F85F-422C-BCB2-718E5F3F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103C-B387-4E8D-967A-FE941FB5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0C20-AEF3-44AE-8D5A-E88B8072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2436-C97B-47FF-9204-8E843593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5FF0-E584-4E8A-9E36-AAF832C5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F94AA-1802-4CDD-A348-1D1F85ABC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8998-4287-40DA-953B-20365EA43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EEB6-A975-4667-97C7-23DC1C98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2CBA-B3F3-44EC-B0C0-3C3EA64A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9517-A12D-40C4-8AE5-04B0C228D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A2DC-AA7B-4A02-93B4-1FBFB59B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58FD-349C-4042-B86C-1E1E052D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3CCA-CA9E-4EE7-AE06-647FBDDD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1EE6-C22F-4201-A160-37A59B04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D0C1-E9B3-4B0E-9878-F0F14F2FE6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72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10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52440" y="419400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352440" y="46256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352440" y="503388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352440" y="543852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352440" y="584676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477720" y="625140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352440" y="37652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352440" y="342396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22"/>
            <p:cNvSpPr/>
            <p:nvPr/>
          </p:nvSpPr>
          <p:spPr>
            <a:xfrm>
              <a:off x="352440" y="7984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23"/>
            <p:cNvSpPr/>
            <p:nvPr/>
          </p:nvSpPr>
          <p:spPr>
            <a:xfrm>
              <a:off x="352440" y="120636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24"/>
            <p:cNvSpPr/>
            <p:nvPr/>
          </p:nvSpPr>
          <p:spPr>
            <a:xfrm>
              <a:off x="352440" y="16128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25"/>
            <p:cNvSpPr/>
            <p:nvPr/>
          </p:nvSpPr>
          <p:spPr>
            <a:xfrm>
              <a:off x="352440" y="201924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26"/>
            <p:cNvSpPr/>
            <p:nvPr/>
          </p:nvSpPr>
          <p:spPr>
            <a:xfrm>
              <a:off x="352440" y="242568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27"/>
            <p:cNvSpPr/>
            <p:nvPr/>
          </p:nvSpPr>
          <p:spPr>
            <a:xfrm>
              <a:off x="347760" y="664200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28"/>
            <p:cNvSpPr/>
            <p:nvPr/>
          </p:nvSpPr>
          <p:spPr>
            <a:xfrm>
              <a:off x="352440" y="344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reeform 29"/>
            <p:cNvSpPr/>
            <p:nvPr/>
          </p:nvSpPr>
          <p:spPr>
            <a:xfrm>
              <a:off x="352440" y="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Freeform 30"/>
            <p:cNvSpPr/>
            <p:nvPr/>
          </p:nvSpPr>
          <p:spPr>
            <a:xfrm>
              <a:off x="355680" y="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31"/>
            <p:cNvSpPr/>
            <p:nvPr/>
          </p:nvSpPr>
          <p:spPr>
            <a:xfrm>
              <a:off x="352440" y="28605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3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3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3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3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f81bd"/>
                      </a:gs>
                      <a:gs pos="100000">
                        <a:srgbClr val="253c57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53c57"/>
                      </a:gs>
                      <a:gs pos="100000">
                        <a:srgbClr val="4f81b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253c57"/>
                      </a:gs>
                      <a:gs pos="100000">
                        <a:srgbClr val="4f81bd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4f81bd"/>
                      </a:gs>
                      <a:gs pos="100000">
                        <a:srgbClr val="253c5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4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253c57"/>
                    </a:gs>
                    <a:gs pos="5000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D3C0-CD85-4E41-86BF-DEB2E64DC7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642920" y="4000320"/>
            <a:ext cx="4219560" cy="221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ЯКОВЛЕВ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СВЕТЛАН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ВЛАДИМИРОВН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учитель-логопе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ГБОУ СОШ №58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КОЛПИНСКОГО район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г.САНКТ-ПЕТЕРБУРГ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071880" y="1857240"/>
          <a:ext cx="5786280" cy="1554120"/>
        </p:xfrm>
        <a:graphic>
          <a:graphicData uri="http://schemas.openxmlformats.org/drawingml/2006/table">
            <a:tbl>
              <a:tblPr/>
              <a:tblGrid>
                <a:gridCol w="5786280"/>
              </a:tblGrid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БУКВА  </a:t>
                      </a:r>
                      <a:r>
                        <a:rPr b="1" lang="ru-RU" sz="96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П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Rectangle 21"/>
          <p:cNvSpPr/>
          <p:nvPr/>
        </p:nvSpPr>
        <p:spPr>
          <a:xfrm>
            <a:off x="3830760" y="34279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Обведи контур букв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1714680" y="2357280"/>
            <a:ext cx="736740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Круглая лента лицом вверх 5"/>
          <p:cNvSpPr/>
          <p:nvPr/>
        </p:nvSpPr>
        <p:spPr>
          <a:xfrm>
            <a:off x="1571760" y="1571760"/>
            <a:ext cx="7572240" cy="3286080"/>
          </a:xfrm>
          <a:custGeom>
            <a:avLst/>
            <a:gdLst>
              <a:gd name="textAreaLeft" fmla="*/ 1892880 w 7572240"/>
              <a:gd name="textAreaRight" fmla="*/ 5679360 w 7572240"/>
              <a:gd name="textAreaTop" fmla="*/ 97200 h 3286080"/>
              <a:gd name="textAreaBottom" fmla="*/ 2464560 h 3286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4a452a"/>
                </a:solidFill>
                <a:latin typeface="Times New Roman"/>
              </a:rPr>
              <a:t>МОЛОДЦЫ!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76092"/>
                </a:solidFill>
                <a:latin typeface="Times New Roman"/>
              </a:rPr>
              <a:t>Внимательно рассмотри буквы, найди сходство и различия.</a:t>
            </a:r>
            <a:endParaRPr b="0" lang="en-US" sz="40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1592280" y="2571840"/>
            <a:ext cx="738972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Найди спрятанные буквы «П». Обведи их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714680" y="1928880"/>
            <a:ext cx="73054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8" descr=""/>
          <p:cNvPicPr/>
          <p:nvPr/>
        </p:nvPicPr>
        <p:blipFill>
          <a:blip r:embed="rId1"/>
          <a:stretch/>
        </p:blipFill>
        <p:spPr>
          <a:xfrm>
            <a:off x="1714680" y="2357280"/>
            <a:ext cx="6929280" cy="13575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Назови перечеркнутые буквы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08" name="Прямая соединительная линия 16"/>
          <p:cNvSpPr/>
          <p:nvPr/>
        </p:nvSpPr>
        <p:spPr>
          <a:xfrm>
            <a:off x="2500200" y="2143080"/>
            <a:ext cx="571680" cy="107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Прямая соединительная линия 18"/>
          <p:cNvSpPr/>
          <p:nvPr/>
        </p:nvSpPr>
        <p:spPr>
          <a:xfrm>
            <a:off x="2356560" y="2143080"/>
            <a:ext cx="71460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20"/>
          <p:cNvSpPr/>
          <p:nvPr/>
        </p:nvSpPr>
        <p:spPr>
          <a:xfrm>
            <a:off x="2214720" y="2143080"/>
            <a:ext cx="785520" cy="15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ая соединительная линия 22"/>
          <p:cNvSpPr/>
          <p:nvPr/>
        </p:nvSpPr>
        <p:spPr>
          <a:xfrm>
            <a:off x="2142360" y="2214720"/>
            <a:ext cx="714600" cy="15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ая соединительная линия 24"/>
          <p:cNvSpPr/>
          <p:nvPr/>
        </p:nvSpPr>
        <p:spPr>
          <a:xfrm>
            <a:off x="2071800" y="2428920"/>
            <a:ext cx="64296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Прямая соединительная линия 26"/>
          <p:cNvSpPr/>
          <p:nvPr/>
        </p:nvSpPr>
        <p:spPr>
          <a:xfrm>
            <a:off x="2071080" y="2714760"/>
            <a:ext cx="500040" cy="10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Прямая соединительная линия 28"/>
          <p:cNvSpPr/>
          <p:nvPr/>
        </p:nvSpPr>
        <p:spPr>
          <a:xfrm>
            <a:off x="2786040" y="2428920"/>
            <a:ext cx="35712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Прямая соединительная линия 34"/>
          <p:cNvSpPr/>
          <p:nvPr/>
        </p:nvSpPr>
        <p:spPr>
          <a:xfrm>
            <a:off x="3571920" y="242892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Прямая соединительная линия 36"/>
          <p:cNvSpPr/>
          <p:nvPr/>
        </p:nvSpPr>
        <p:spPr>
          <a:xfrm>
            <a:off x="3571920" y="257184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Прямая соединительная линия 38"/>
          <p:cNvSpPr/>
          <p:nvPr/>
        </p:nvSpPr>
        <p:spPr>
          <a:xfrm>
            <a:off x="3571920" y="271476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Прямая соединительная линия 40"/>
          <p:cNvSpPr/>
          <p:nvPr/>
        </p:nvSpPr>
        <p:spPr>
          <a:xfrm>
            <a:off x="3571920" y="285768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Прямая соединительная линия 42"/>
          <p:cNvSpPr/>
          <p:nvPr/>
        </p:nvSpPr>
        <p:spPr>
          <a:xfrm>
            <a:off x="3571920" y="3000240"/>
            <a:ext cx="928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" name="Соединительная линия уступом 44"/>
          <p:cNvCxnSpPr/>
          <p:nvPr/>
        </p:nvCxnSpPr>
        <p:spPr>
          <a:xfrm>
            <a:off x="3571920" y="3142800"/>
            <a:ext cx="929520" cy="252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221" name="Прямая соединительная линия 46"/>
          <p:cNvSpPr/>
          <p:nvPr/>
        </p:nvSpPr>
        <p:spPr>
          <a:xfrm>
            <a:off x="3571920" y="3286080"/>
            <a:ext cx="928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Прямая соединительная линия 48"/>
          <p:cNvSpPr/>
          <p:nvPr/>
        </p:nvSpPr>
        <p:spPr>
          <a:xfrm>
            <a:off x="3571920" y="342900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Прямая соединительная линия 50"/>
          <p:cNvSpPr/>
          <p:nvPr/>
        </p:nvSpPr>
        <p:spPr>
          <a:xfrm>
            <a:off x="3571920" y="357192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Прямая соединительная линия 52"/>
          <p:cNvSpPr/>
          <p:nvPr/>
        </p:nvSpPr>
        <p:spPr>
          <a:xfrm>
            <a:off x="4929120" y="2143080"/>
            <a:ext cx="100008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Прямая соединительная линия 54"/>
          <p:cNvSpPr/>
          <p:nvPr/>
        </p:nvSpPr>
        <p:spPr>
          <a:xfrm>
            <a:off x="4929120" y="2143080"/>
            <a:ext cx="1000080" cy="85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Прямая соединительная линия 56"/>
          <p:cNvSpPr/>
          <p:nvPr/>
        </p:nvSpPr>
        <p:spPr>
          <a:xfrm>
            <a:off x="4929120" y="2143080"/>
            <a:ext cx="100008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Прямая соединительная линия 58"/>
          <p:cNvSpPr/>
          <p:nvPr/>
        </p:nvSpPr>
        <p:spPr>
          <a:xfrm>
            <a:off x="4929120" y="2143080"/>
            <a:ext cx="928800" cy="15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Прямая соединительная линия 60"/>
          <p:cNvSpPr/>
          <p:nvPr/>
        </p:nvSpPr>
        <p:spPr>
          <a:xfrm>
            <a:off x="4929120" y="2143080"/>
            <a:ext cx="642960" cy="15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Прямая соединительная линия 62"/>
          <p:cNvSpPr/>
          <p:nvPr/>
        </p:nvSpPr>
        <p:spPr>
          <a:xfrm>
            <a:off x="4928400" y="2143080"/>
            <a:ext cx="428760" cy="16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Прямая соединительная линия 64"/>
          <p:cNvSpPr/>
          <p:nvPr/>
        </p:nvSpPr>
        <p:spPr>
          <a:xfrm>
            <a:off x="4928400" y="2143080"/>
            <a:ext cx="142920" cy="16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Прямая соединительная линия 68"/>
          <p:cNvSpPr/>
          <p:nvPr/>
        </p:nvSpPr>
        <p:spPr>
          <a:xfrm flipH="1">
            <a:off x="4928760" y="2214720"/>
            <a:ext cx="1800" cy="150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Прямая соединительная линия 80"/>
          <p:cNvSpPr/>
          <p:nvPr/>
        </p:nvSpPr>
        <p:spPr>
          <a:xfrm>
            <a:off x="6429240" y="278604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Прямая соединительная линия 82"/>
          <p:cNvSpPr/>
          <p:nvPr/>
        </p:nvSpPr>
        <p:spPr>
          <a:xfrm>
            <a:off x="6429240" y="292896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Прямая соединительная линия 84"/>
          <p:cNvSpPr/>
          <p:nvPr/>
        </p:nvSpPr>
        <p:spPr>
          <a:xfrm>
            <a:off x="6429240" y="307188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Прямая соединительная линия 86"/>
          <p:cNvSpPr/>
          <p:nvPr/>
        </p:nvSpPr>
        <p:spPr>
          <a:xfrm>
            <a:off x="6429240" y="321480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Прямая соединительная линия 88"/>
          <p:cNvSpPr/>
          <p:nvPr/>
        </p:nvSpPr>
        <p:spPr>
          <a:xfrm>
            <a:off x="6429240" y="335772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Прямая соединительная линия 90"/>
          <p:cNvSpPr/>
          <p:nvPr/>
        </p:nvSpPr>
        <p:spPr>
          <a:xfrm>
            <a:off x="6429240" y="3500280"/>
            <a:ext cx="107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Прямая соединительная линия 96"/>
          <p:cNvSpPr/>
          <p:nvPr/>
        </p:nvSpPr>
        <p:spPr>
          <a:xfrm>
            <a:off x="6429240" y="3643200"/>
            <a:ext cx="107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Прямая соединительная линия 104"/>
          <p:cNvSpPr/>
          <p:nvPr/>
        </p:nvSpPr>
        <p:spPr>
          <a:xfrm>
            <a:off x="6429240" y="264312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Прямая соединительная линия 106"/>
          <p:cNvSpPr/>
          <p:nvPr/>
        </p:nvSpPr>
        <p:spPr>
          <a:xfrm>
            <a:off x="6429240" y="250020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Прямая соединительная линия 108"/>
          <p:cNvSpPr/>
          <p:nvPr/>
        </p:nvSpPr>
        <p:spPr>
          <a:xfrm>
            <a:off x="6429240" y="235728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Прямая соединительная линия 112"/>
          <p:cNvSpPr/>
          <p:nvPr/>
        </p:nvSpPr>
        <p:spPr>
          <a:xfrm>
            <a:off x="6429240" y="2214720"/>
            <a:ext cx="1214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Прямая соединительная линия 114"/>
          <p:cNvSpPr/>
          <p:nvPr/>
        </p:nvSpPr>
        <p:spPr>
          <a:xfrm flipH="1">
            <a:off x="4427640" y="2357280"/>
            <a:ext cx="144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Прямая соединительная линия 116"/>
          <p:cNvSpPr/>
          <p:nvPr/>
        </p:nvSpPr>
        <p:spPr>
          <a:xfrm flipH="1">
            <a:off x="4284720" y="2357280"/>
            <a:ext cx="144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Прямая соединительная линия 118"/>
          <p:cNvSpPr/>
          <p:nvPr/>
        </p:nvSpPr>
        <p:spPr>
          <a:xfrm flipH="1">
            <a:off x="4141800" y="2357280"/>
            <a:ext cx="144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Прямая соединительная линия 120"/>
          <p:cNvSpPr/>
          <p:nvPr/>
        </p:nvSpPr>
        <p:spPr>
          <a:xfrm flipH="1">
            <a:off x="3998520" y="2357280"/>
            <a:ext cx="180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Прямая соединительная линия 122"/>
          <p:cNvSpPr/>
          <p:nvPr/>
        </p:nvSpPr>
        <p:spPr>
          <a:xfrm flipH="1">
            <a:off x="3855600" y="2357280"/>
            <a:ext cx="180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Прямая соединительная линия 126"/>
          <p:cNvSpPr/>
          <p:nvPr/>
        </p:nvSpPr>
        <p:spPr>
          <a:xfrm flipH="1">
            <a:off x="3712680" y="2357280"/>
            <a:ext cx="180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Прямая соединительная линия 130"/>
          <p:cNvSpPr/>
          <p:nvPr/>
        </p:nvSpPr>
        <p:spPr>
          <a:xfrm flipH="1">
            <a:off x="8001000" y="2143080"/>
            <a:ext cx="1440" cy="178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Прямая соединительная линия 132"/>
          <p:cNvSpPr/>
          <p:nvPr/>
        </p:nvSpPr>
        <p:spPr>
          <a:xfrm flipH="1">
            <a:off x="7929720" y="2143080"/>
            <a:ext cx="1440" cy="178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ая соединительная линия 136"/>
          <p:cNvSpPr/>
          <p:nvPr/>
        </p:nvSpPr>
        <p:spPr>
          <a:xfrm flipH="1">
            <a:off x="7857720" y="2143080"/>
            <a:ext cx="180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Прямая соединительная линия 138"/>
          <p:cNvSpPr/>
          <p:nvPr/>
        </p:nvSpPr>
        <p:spPr>
          <a:xfrm flipH="1">
            <a:off x="8071920" y="2143080"/>
            <a:ext cx="1800" cy="17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Прямая соединительная линия 140"/>
          <p:cNvSpPr/>
          <p:nvPr/>
        </p:nvSpPr>
        <p:spPr>
          <a:xfrm flipH="1">
            <a:off x="814392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Прямая соединительная линия 142"/>
          <p:cNvSpPr/>
          <p:nvPr/>
        </p:nvSpPr>
        <p:spPr>
          <a:xfrm flipH="1">
            <a:off x="8214840" y="2143080"/>
            <a:ext cx="180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Прямая соединительная линия 146"/>
          <p:cNvSpPr/>
          <p:nvPr/>
        </p:nvSpPr>
        <p:spPr>
          <a:xfrm flipH="1">
            <a:off x="828684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ая соединительная линия 148"/>
          <p:cNvSpPr/>
          <p:nvPr/>
        </p:nvSpPr>
        <p:spPr>
          <a:xfrm flipH="1">
            <a:off x="8357760" y="2143080"/>
            <a:ext cx="180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ая соединительная линия 150"/>
          <p:cNvSpPr/>
          <p:nvPr/>
        </p:nvSpPr>
        <p:spPr>
          <a:xfrm flipH="1">
            <a:off x="842976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ая соединительная линия 154"/>
          <p:cNvSpPr/>
          <p:nvPr/>
        </p:nvSpPr>
        <p:spPr>
          <a:xfrm flipH="1">
            <a:off x="7714800" y="2143080"/>
            <a:ext cx="180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ая соединительная линия 156"/>
          <p:cNvSpPr/>
          <p:nvPr/>
        </p:nvSpPr>
        <p:spPr>
          <a:xfrm flipH="1">
            <a:off x="778680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Определи букву в неправильном положении.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1"/>
          <a:stretch/>
        </p:blipFill>
        <p:spPr>
          <a:xfrm>
            <a:off x="1785960" y="2143080"/>
            <a:ext cx="7026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Выдели только знакомую букву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1714680" y="2000160"/>
            <a:ext cx="7122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1f497d"/>
                </a:solidFill>
                <a:latin typeface="Times New Roman"/>
              </a:rPr>
              <a:t>Добавь недостающий элемент буквы.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1714680" y="2500200"/>
            <a:ext cx="72435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Times New Roman"/>
              </a:rPr>
              <a:t>Найди все буквы П.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1857240" y="2071800"/>
            <a:ext cx="69739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Times New Roman"/>
              </a:rPr>
              <a:t>Раскрась петушка где буква П в синий цвет.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2643120" y="1643040"/>
            <a:ext cx="464364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4:58:15Z</dcterms:created>
  <dc:creator>1</dc:creator>
  <dc:description/>
  <dc:language>en-US</dc:language>
  <cp:lastModifiedBy>Admin</cp:lastModifiedBy>
  <dcterms:modified xsi:type="dcterms:W3CDTF">2012-11-26T14:26:03Z</dcterms:modified>
  <cp:revision>1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4</vt:r8>
  </property>
</Properties>
</file>